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439-F09B-4987-93F8-9CAF6D61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227-05ED-48E5-BEE2-B5EC67AA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B742-1827-4623-BECB-0ACBD5D1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599-92C4-4C33-81CE-493048F4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E68-C6AC-4C43-AE1F-9138E9E4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5BD-4141-48F7-A8A2-A66713B4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5B9-71C7-462D-A28A-BAA6B88B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97F-F708-4F5D-8283-86DE695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454-8475-49D9-B3B1-5924AD0C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6AE-CA1F-4818-A169-15E4DAB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A58-CA44-4CFC-AF2B-85BD2BFF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324-0576-450F-90BF-A48CB525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9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35F3-6189-4537-B72C-EB55B5587C4B}" type="slidenum">
              <a:rPr b="0" lang="en-GB" sz="1400" spc="-1" strike="noStrike">
                <a:solidFill>
                  <a:srgbClr val="99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Comic Sans MS"/>
              </a:rPr>
              <a:t>Advertisements</a:t>
            </a:r>
            <a:endParaRPr b="0" lang="en-US" sz="60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914400" y="1600200"/>
            <a:ext cx="701028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Persuasive Writing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Comic Sans MS"/>
              </a:rPr>
              <a:t>Advertisements are a special type of persuasive writing.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ir purpose is to sell a product or a servic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do this by aiming at a particular type of customer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use carefully chosen, positive languag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appeal to some aspect of the reader’s personality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66"/>
                </a:solidFill>
                <a:latin typeface="Comic Sans MS"/>
              </a:rPr>
              <a:t>They try to make the reader believe that their product will make them: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 rot="20206200">
            <a:off x="529920" y="2590560"/>
            <a:ext cx="1819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Happier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 rot="1218000">
            <a:off x="1917720" y="3160080"/>
            <a:ext cx="2200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Healthier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 rot="21349200">
            <a:off x="3335400" y="252576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Slimmer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 rot="21292200">
            <a:off x="6501600" y="3885120"/>
            <a:ext cx="1981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More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beautiful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 rot="794400">
            <a:off x="3574800" y="4265640"/>
            <a:ext cx="205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More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intelligent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 rot="20467800">
            <a:off x="390960" y="3884400"/>
            <a:ext cx="2514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More fashio</a:t>
            </a: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n</a:t>
            </a: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able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 rot="20851200">
            <a:off x="4489560" y="338256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Successful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 rot="682200">
            <a:off x="5460480" y="2016000"/>
            <a:ext cx="29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More comfortable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85800" y="5715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 envy of all their </a:t>
            </a: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friends</a:t>
            </a: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 rot="844800">
            <a:off x="6621120" y="5103720"/>
            <a:ext cx="205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Less</a:t>
            </a: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stressed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Comic Sans MS"/>
              </a:rPr>
              <a:t>They use carefully chosen language to appeal to their target audience.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 rot="21103200">
            <a:off x="837000" y="228636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Special</a:t>
            </a: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 Offer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 rot="102000">
            <a:off x="3500280" y="22093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Best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 rot="20496600">
            <a:off x="6020280" y="2209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Number One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 rot="20661600">
            <a:off x="1295280" y="403812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Exclusive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 rot="931200">
            <a:off x="3424320" y="320004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Free</a:t>
            </a: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 rot="1128600">
            <a:off x="6324120" y="4648320"/>
            <a:ext cx="1776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Bargain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048120" y="548640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Guaranteed </a:t>
            </a: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Result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 rot="20436600">
            <a:off x="5870160" y="5410080"/>
            <a:ext cx="2286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Look No Further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 rot="972600">
            <a:off x="3047760" y="4114440"/>
            <a:ext cx="2286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Cheaper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 rot="857400">
            <a:off x="374760" y="5105160"/>
            <a:ext cx="228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The </a:t>
            </a: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otal</a:t>
            </a: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 Exper</a:t>
            </a: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990099"/>
                </a:solidFill>
                <a:latin typeface="Comic Sans MS"/>
              </a:rPr>
              <a:t>ence</a:t>
            </a:r>
            <a:endParaRPr b="0" lang="en-U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 rot="730200">
            <a:off x="609120" y="3352320"/>
            <a:ext cx="1143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Cool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 rot="20039400">
            <a:off x="4191120" y="4723920"/>
            <a:ext cx="14475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Smart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 rot="21216600">
            <a:off x="5562360" y="3352320"/>
            <a:ext cx="2286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Latest Fashion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 rot="19687200">
            <a:off x="2695680" y="2560680"/>
            <a:ext cx="761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Fun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 rot="1077600">
            <a:off x="7086240" y="3123720"/>
            <a:ext cx="16002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Genuine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Comic Sans MS"/>
              </a:rPr>
              <a:t>They promise: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to cure all your ailments;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To solve all your problems;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99"/>
                </a:solidFill>
                <a:latin typeface="Comic Sans MS"/>
              </a:rPr>
              <a:t>To change your life for the better.</a:t>
            </a: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14400" y="4114800"/>
            <a:ext cx="73152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99"/>
                </a:solidFill>
                <a:latin typeface="Comic Sans MS"/>
              </a:rPr>
              <a:t>They make you feel that you can’t live without it.</a:t>
            </a: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66"/>
                </a:solidFill>
                <a:latin typeface="Comic Sans MS"/>
              </a:rPr>
              <a:t>How do they attract your attention and stick in your memory?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can use humour to get you in a good mood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ask questions to hook you in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appeal to your senses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use alliteration, rhyme or a play on words to create a memorable slogan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persuade you to imagine yourself using their product;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990099"/>
                </a:solidFill>
                <a:latin typeface="Comic Sans MS"/>
              </a:rPr>
              <a:t>They make you feel special.</a:t>
            </a: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Comic Sans MS"/>
              </a:rPr>
              <a:t>Advertisements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contain a mix of facts and persuasive comment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focus on the positive and ignore the negativ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use exaggerated language, full of adjectives and adverbs to paint an appealing pictur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start sentences with the imperative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ask rhetorical questions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y use memorable images and slogans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99"/>
                </a:solidFill>
                <a:latin typeface="Comic Sans MS"/>
              </a:rPr>
              <a:t>Their sole purpose is to convince the reader to buy their product.</a:t>
            </a: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15:14:10Z</dcterms:created>
  <dc:creator>M Howden</dc:creator>
  <dc:description/>
  <dc:language>en-US</dc:language>
  <cp:lastModifiedBy>Giulia SGARBOSSA</cp:lastModifiedBy>
  <dcterms:modified xsi:type="dcterms:W3CDTF">2013-02-08T04:19:50Z</dcterms:modified>
  <cp:revision>25</cp:revision>
  <dc:subject/>
  <dc:title>Persuasive Writing</dc:title>
</cp:coreProperties>
</file>